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– 16 December 2005 – version 3.0 – Page </a:t>
            </a:r>
            <a:fld id="{878BDC87-073A-4016-AC83-807CB2F2D264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of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06436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Minion"/>
                <a:ea typeface="Times New Roman"/>
              </a:rPr>
              <a:t>Default settings for User Preferences in Primavera Timesheets 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ann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6 December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386064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This guide visualise the preferred- and standard settings of “User Preferences in Timesheets.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Verify – and if necessary change – these sett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836640"/>
            <a:ext cx="78408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rmAutofit/>
          </a:bodyPr>
          <a:p>
            <a:pPr marL="482760" indent="-482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Times New Roman"/>
              </a:rPr>
              <a:t>User Preferences is placed under EDIT in the menu b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Time Units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903640" cy="4306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6920" y="2060640"/>
            <a:ext cx="115128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Dates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"/>
          <p:cNvSpPr/>
          <p:nvPr/>
        </p:nvSpPr>
        <p:spPr>
          <a:xfrm>
            <a:off x="-76320" y="1066680"/>
            <a:ext cx="76964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rmAutofit/>
          </a:bodyPr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903640" cy="4306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26920" y="2276640"/>
            <a:ext cx="1151280" cy="43308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Password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903640" cy="4306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V="1">
            <a:off x="3564000" y="4508280"/>
            <a:ext cx="1439640" cy="865080"/>
          </a:xfrm>
          <a:prstGeom prst="line">
            <a:avLst/>
          </a:prstGeom>
          <a:ln w="38160">
            <a:solidFill>
              <a:srgbClr val="3a0e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2492280"/>
            <a:ext cx="115128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35640" y="2276640"/>
            <a:ext cx="2521080" cy="1008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Make sure the Email address is always vali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836640"/>
            <a:ext cx="83534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rmAutofit/>
          </a:bodyPr>
          <a:p>
            <a:pPr marL="482760" indent="-482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NB: Immediately change the password provided by Primavera Suppo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Start Up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836640"/>
            <a:ext cx="7696080" cy="54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elect the preferred start-up windo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903640" cy="4306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6920" y="2708280"/>
            <a:ext cx="115128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787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Activity Timeframe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"/>
          <p:cNvSpPr/>
          <p:nvPr/>
        </p:nvSpPr>
        <p:spPr>
          <a:xfrm>
            <a:off x="-76320" y="1066680"/>
            <a:ext cx="76964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rmAutofit/>
          </a:bodyPr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Minion"/>
              <a:buChar char="•"/>
              <a:tabLst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903640" cy="4306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6920" y="2924280"/>
            <a:ext cx="115128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122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Timesheets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836640"/>
            <a:ext cx="8064360" cy="54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288000" bIns="108000" anchor="t">
            <a:noAutofit/>
          </a:bodyPr>
          <a:p>
            <a:pPr marL="482760" indent="-482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Do not change these colours due to preferred standard settings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903640" cy="4306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26920" y="3213000"/>
            <a:ext cx="1143000" cy="45720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15:39:06Z</dcterms:created>
  <dc:creator>Jacob Juul</dc:creator>
  <dc:description>2.0 Released 16.12.05 Jacob Juul
2.1 - 16.12.05 - jju - updated as BenQ template
Changed to Version 3.0 - 25 January 2006 - OSM</dc:description>
  <dc:language>en-US</dc:language>
  <cp:lastModifiedBy>Ole Sletting Madsen</cp:lastModifiedBy>
  <dcterms:modified xsi:type="dcterms:W3CDTF">2006-01-25T11:35:03Z</dcterms:modified>
  <cp:revision>17</cp:revision>
  <dc:subject/>
  <dc:title>Timesheet - User Preferences</dc:title>
</cp:coreProperties>
</file>